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708-4DDE-4B6A-AF59-6F68685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521-8BDF-4142-81FC-1214CA7A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6033D-1F3E-4EEC-A68E-B14D661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B9456-778B-4A4F-A6E4-04D03EB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9A9E-E831-4016-81D3-727D7B4C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1E419-089E-4A03-AC3F-8A2EF23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30AA4-998B-43EB-807D-9E8932A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12084-E572-4C57-838E-FF54B8F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1D6FD-11DB-45F6-B1C7-EF7DB18B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417A8-8AAA-4031-A4BF-711DAA4F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E1EB5-B6B5-4F11-ABAB-60E32439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18B45-A3CD-4CF0-88B7-292135FB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BAE-28BF-41B0-8DB3-9DEBE78E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E92BF-2910-4824-BEB1-CC296E37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CAAEC-87DE-45AE-A73C-B64D006B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4229C-A645-496F-842D-1125F57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ED033-E410-42A1-8BF5-11FFC88E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9C8A5-5D03-42FE-AF94-6394ECC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4A83E-7581-4A11-9329-6FA9CDF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C7A06-CBB6-4524-AA14-1EB1D4D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4A5C5-ED8E-4073-A52F-7ECA948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14331-74CF-44A8-A022-0CBCF46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B3661-126C-4233-9D4C-1CE8B8E7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2A6-DC75-4587-ABA9-48FA0033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C9EC8-BB7C-47A5-817F-95047780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0AF59-5516-4292-B906-BE3ACF52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5E9EC-95C0-41C6-B4D9-BCC2360C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728D8-0BC8-4748-80D6-440332F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4ABD7-6086-475C-A5C3-94A8C48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247A-E29E-47D6-BFA4-2578EFDD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F7A36-0B07-405E-9D9B-16B228E2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2E82-1287-4E3D-A80A-87AA24C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E8DA-D2FC-4B79-BEC1-BD4029C7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4616-363D-4F9F-9E5E-49DC9A9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EDA4-FDF6-4594-83AE-3F191E6A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22BD1-F7DC-4A47-B0B1-D5954433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2BBFB-C3C2-4B2F-A4A2-972FEFCF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F9678-A22B-419A-84D4-0E009BD1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17896-63BA-48BA-8667-AED56A18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2299E-52D2-4F34-976D-E5514DE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9C6B1-7AAA-4218-8672-1B3889E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C0182-1B30-4990-BD03-3FCF6BD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4FF7B-05FD-4E89-8232-42B27E15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07319-D3B1-4957-83B7-C6E8E307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C8949-6365-4229-95A7-E401BA7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E261-487E-4BDE-9701-C870E29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47BC3-534D-4614-AD95-CCA39D6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DA562-B971-475B-8F26-F84F5F5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BE864-BBEF-43C6-B5E1-8F27B385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29035-EEDD-4533-AF03-755FF4F6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CA05C-E899-413D-9C46-239CA2D1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785-B33E-4EC4-916E-5715408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DC82-AFDA-4DE2-8A22-FB9B04D3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82E9-54B7-4D17-A283-232727D2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6DB-1D0C-4AC1-A236-091D6DF1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B2BF-4E70-48F1-9A1E-29E2DA4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F78-2569-4B68-8A87-8338399F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CF7-30BB-436F-8042-F6EB9288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6B1D-8E6E-4B9F-8A0F-5E4D5CA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F009-9A61-475C-AB99-9A8FC1A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DAC3-8BEB-40C0-AF97-F9880D0E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88C8-E649-4408-A115-33CFFDA8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45DE-D8DC-4098-A0FB-E2D1E711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8696-587F-4887-BE42-0FE11AFB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B6A3-2D48-4AB4-99A0-FAE6B936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C915-69C2-46A3-9C2D-3A550950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9132-563B-4575-8C76-8CFF8B9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796-C209-4DA5-A9D0-DA51A5E9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69F7-1DE3-4B2D-A80C-2CA793B8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D524-293E-4AE3-AEB5-DAF1F414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330A-C8CE-4868-94CF-DD24840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5286-38C1-4389-81DD-09B4BC1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DE97-F1F0-44A6-8DC5-2953FF72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446B-73BC-412C-914E-2DA95B9E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374F-AC6B-4F67-81FB-C98D1391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312A-EE7C-40D6-A24B-9914CCC1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3664-7630-49CD-8448-115E0882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C3D3-9248-4C5C-94B7-61A5622E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7F9-1DA9-46D7-AB90-13C40D49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7A61-865D-406B-AD17-40CE6B57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8860-1532-4829-A864-4F266CEB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348E-5D11-4265-BD3D-72D85748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EDB8-F340-41BC-81C4-B13B276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74D5-47FA-40A6-887A-FBB53C94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A77B-4765-4FD6-AB49-65D9205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231E-0073-4071-9200-A2C760E9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3E6C-52DB-40E5-B090-62DBB60F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C38B-3349-4B58-93B8-82150908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F7CE-A1D2-4991-A66D-237919C6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4BE-011D-4912-9D20-8D18C0B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8205-6E05-439A-BC78-8641D90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8792-892F-49A1-AB18-8F93450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ADD8-2AB6-4D01-8F30-A11A426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0BB3-2489-4BE8-A3F9-752D6167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C634-7E22-42DB-8BF3-F0F5EB7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9055C-5788-40C1-A7A9-EAE143E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8583-DD88-428B-BC1E-21DCF399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5042-F7BA-4DA9-9AC0-B84A87D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020B-ED1B-4F8D-8BF1-DD64A30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414F-53D5-46D0-8CE2-4D886437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B36-ED19-447E-8716-9BEB832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F65D8-4954-4AD9-8748-E453E049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CA3CD-BB42-45FB-86C6-16A2ED6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C7F2-1118-4DD9-88A5-DDF73377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06B61-9E20-4295-BAD3-35DCDA6B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0EA0-1FC4-4472-A3FA-6F3C936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5DCD9-D8B5-49B6-8EFB-E14C8077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ED12-6C08-497F-A1D8-6A31D648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EB2E5-68DF-484E-87B4-BCABE8A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EE1D-78E0-44B8-B0F7-2DCE2B1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A3893-46BF-46B4-84A8-8D9C29A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979-96A7-4514-9445-5A933EB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D4B0-0BAC-4FF3-8EEA-E39028D2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0A01-AD49-4EE8-B966-1BB04D3D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F83D5-DBC3-475F-A34C-2E38A507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63A5-08E4-4C17-95DB-D3832BCA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69C9-A522-4213-90B2-84F7684F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57CF5-0002-465E-993A-CB827671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B832D-8321-4EF8-A65C-6A197DA8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35A0E-EBBF-46E2-B9B9-8653F212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BBCD-DD15-44DB-BBF2-13465FC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3C24-C671-40F6-8F59-9504326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744-1C03-4898-B2C4-BE75205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0CB3-C590-4B9D-8ECE-C7A1232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7698E-3FB5-4E59-A8E6-D14E48D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82DB-15F1-42A2-894C-0052834C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D136-0F84-4000-B881-F1F7126F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635E-DF38-48D8-934D-52821856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589A-04C5-45A5-B20B-1607BEED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98F1B-2544-49F9-8F99-7915E700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5CFE6-F310-4010-96AB-51F66EE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6C1CE-30E8-4BC6-9F2F-29B45C1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B968-6470-4781-B5DD-A756F574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273-7B7F-47BB-9D95-6C5B8A8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453E2-5C89-4BB2-93DF-041F69A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3235-620C-484A-A98D-ADF4A96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FD33-2D9B-47D1-ADDE-C51B15D6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2BB9D-2FD3-4BB9-BA01-E66DE48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EC085-FF62-4403-9B4E-57411A44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EB98-A113-4E09-BF09-28552B0E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72FC-FD8E-4C4E-8E6D-4CFF0CE5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0AB14-49A5-4952-86E5-6D2328E4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3BDC1-B8E0-4849-99E1-242AC625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DF6D-378D-47EB-B0CF-CB9FB5D4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480-5B0B-44FB-9FB0-2CCD3CEADC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60B3-6DFB-4B91-BEC8-0F20A0BCAC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04F-3CAA-46B5-A64E-7A2355EEDD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7B0-7292-4F68-B993-CF7395B1DF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8A88-8653-4EFF-9D97-A885756B29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794E-DD12-4ADA-9CF1-30AA90811D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D680-11D5-4F6D-85DD-A014086737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4548-C5F7-49E3-980F-0F486821ED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53E3-60D7-4D4E-BB5C-A5F9BC515B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D7F1-C2AC-4CDC-9476-2FF4E41C68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5E52-DF27-4765-A6CB-CB164EBAEE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BBD-CD00-4C60-84A5-BD77DB9E4D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1 Nepoznáme, drahý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oznáme, drahý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ú vzácnu hodin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i v moci prídeš is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emskú vziať rodin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všetci vykúp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i navždy s tebou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ich slávou ozdobe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víta Boh Otec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, kto nádej uprie smel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lasti, ktorej zrieť smie br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má vždy túžbu vrel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ončiť slávne žitia b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sa k tebe vierou v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 Slova vedie 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tme sveta nezahy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a má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stavične teda bde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edujme reč zn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u, nádej posilu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ou láskou spoj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náš Pán oslá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áti a nás pozdra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ch svojich vykúpe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m vencom osláv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DUMAS Ing. Dušan Bielik</cp:lastModifiedBy>
  <dcterms:modified xsi:type="dcterms:W3CDTF">2025-01-06T18:29:54Z</dcterms:modified>
  <cp:revision>3</cp:revision>
  <dc:subject/>
  <dc:title>Bez nadpisu</dc:title>
</cp:coreProperties>
</file>